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6.jpeg" ContentType="image/jpeg"/>
  <Override PartName="/ppt/media/laser.wav" ContentType="audio/x-wav"/>
  <Override PartName="/ppt/media/image15.jpeg" ContentType="image/jpeg"/>
  <Override PartName="/ppt/media/explode.wav" ContentType="audio/x-wav"/>
  <Override PartName="/ppt/media/image5.jpeg" ContentType="image/jpeg"/>
  <Override PartName="/ppt/media/image14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click.wav" ContentType="audio/x-wav"/>
  <Override PartName="/ppt/media/whoosh.wav" ContentType="audio/x-wav"/>
  <Override PartName="/ppt/media/image10.jpeg" ContentType="image/jpeg"/>
  <Override PartName="/ppt/media/image8.jpeg" ContentType="image/jpeg"/>
  <Override PartName="/ppt/media/bomb.wav" ContentType="audio/x-wav"/>
  <Override PartName="/ppt/media/arrow.wav" ContentType="audio/x-wav"/>
  <Override PartName="/ppt/media/camera.wav" ContentType="audio/x-wav"/>
  <Override PartName="/ppt/media/image17.jpeg" ContentType="image/jpeg"/>
  <Override PartName="/ppt/media/image20.jpeg" ContentType="image/jpeg"/>
  <Override PartName="/ppt/media/image21.jpeg" ContentType="image/jpeg"/>
  <Override PartName="/ppt/media/chimes.wav" ContentType="audio/x-wav"/>
  <Override PartName="/ppt/media/suction.wav" ContentType="audio/x-wav"/>
  <Override PartName="/ppt/media/image25.jpeg" ContentType="image/jpeg"/>
  <Override PartName="/ppt/media/image18.jpeg" ContentType="image/jpeg"/>
  <Override PartName="/ppt/media/image23.jpeg" ContentType="image/jpeg"/>
  <Override PartName="/ppt/media/push.wav" ContentType="audio/x-wav"/>
  <Override PartName="/ppt/media/image19.jpeg" ContentType="image/jpeg"/>
  <Override PartName="/ppt/media/image24.jpeg" ContentType="image/jpeg"/>
  <Override PartName="/ppt/media/drumroll.wav" ContentType="audio/x-wav"/>
  <Override PartName="/ppt/media/image26.jpeg" ContentType="image/jpeg"/>
  <Override PartName="/ppt/media/applause.wav" ContentType="audio/x-wav"/>
  <Override PartName="/ppt/media/image1.jpeg" ContentType="image/jpeg"/>
  <Override PartName="/ppt/media/image22.jpeg" ContentType="image/jpeg"/>
  <Override PartName="/ppt/media/cashreg.wav" ContentType="audio/x-wav"/>
  <Override PartName="/ppt/media/image2.jpeg" ContentType="image/jpeg"/>
  <Override PartName="/ppt/media/hammer.wav" ContentType="audio/x-wav"/>
  <Override PartName="/ppt/media/image12.jpeg" ContentType="image/jpeg"/>
  <Override PartName="/ppt/media/image4.png" ContentType="image/png"/>
  <Override PartName="/ppt/media/image6.jpeg" ContentType="image/jpeg"/>
  <Override PartName="/ppt/media/type.wav" ContentType="audio/x-wav"/>
  <Override PartName="/ppt/media/image7.jpeg" ContentType="image/jpeg"/>
  <Override PartName="/ppt/media/image3.jpeg" ContentType="image/jpeg"/>
  <Override PartName="/ppt/media/voltage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5AB-F8B9-48BA-8317-7E0A2B5C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A86-3A42-4DA5-9BFF-82D36AEB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EB2-42D8-4DB5-81AC-AD065AF1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E42-A249-429B-979D-A25569A3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9C35-07FB-4B53-99C1-FB47D087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DEED-FACC-4DAB-80A6-6F2BE734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AB2B-7EF7-4EF1-AC8B-0B2EF02F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9426-39AD-419A-861F-75827E53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EEC0-41C0-4B18-B0EC-775CD24B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E411-0747-43DF-AE76-2380465A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2065-D2B7-478D-861A-D07AF8B9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BBD-11B8-4B12-810B-5446E16E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28A0-57F6-4B81-B009-43186479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31B4-C1F1-4600-BDF6-CA856BE7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A912-9F9F-44A7-BF13-0BE27716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BFA6-738C-4949-9601-1E98A7C3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BF50-0FE5-48BC-8C0D-029BE7FA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8FD93-703F-4A69-886D-0AE95785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BF34A-9AF4-4787-8699-F54AFE9F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BA63D-9873-4662-9BF7-0CD1DA57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5333E-8222-4FC1-B802-24D6DF8A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B99A2-0764-48AD-B6CB-8CB70E24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B2C-9E53-4BF1-B3B4-72F08D2D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8B1E4-9C41-44C3-B6F3-01492EC6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2057D-8C62-44F2-B62A-C3647069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F3750-2E5C-4D72-9DF6-BEFB0DA6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0865D-9CA3-43B1-9BA4-265AB8FF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2ACF9-1292-4023-BA1F-7ED640A7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C494D-481F-4130-8402-19C8ACB7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4F383-81BD-4B45-9388-88E92D15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4AA8E-4CEA-485D-928D-2428EF63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225D1-10F2-4196-8791-671B0AD9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FCD8A-EEC0-47B2-95A0-4BC37A91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074-0B46-4325-A282-ABE4AC6B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A2E42-8774-4D5E-BE04-FD45A3F0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AA61D-DB59-4D02-A82B-8C6449E4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ED3D9-77B2-49DA-93E4-F4606C00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635DF-2BCA-4800-BE8F-D1678DBF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78DC5-0BA3-4D90-902F-88D2530E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EB2E-922C-4813-908E-74727761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25BA-EF1E-4C5B-9E20-84230A1F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5D774-DA36-49B1-A7D2-FA8EFA9D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48325-C213-4481-AB3A-53791A95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24CD5-B51B-44EC-8FD5-609E9ADE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6B5-89A4-4B82-BE89-1A2C904A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01DF9-B54E-42DA-9E3D-E88A78B3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768AF-58D3-4A16-8F5F-6A406444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067EB-C387-4C63-AE7F-5DC704A3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C8D5A-4C16-4CF3-A62D-8D389D4F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4B63A-752E-44C3-85EE-A019B38E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C6975-D824-48A6-906D-DEFB8093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D13CF-774A-43C1-B2CE-EC4358C3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C72CD-07B7-40E6-BE45-F143DF2B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DB62E-A755-477D-B53D-FDB7C038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F1C0F-BD33-4DAC-B90D-18B0150C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6CA-4991-456B-88BE-17925D88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78136-AD5F-476D-ACAC-5E745C71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069F0-5B41-4432-B6EA-8B85B98A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C54B4-10AD-4532-9377-EB9FEE25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3DEA6-FE21-4AEE-A2E7-582845AE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40B36-261F-45F0-B344-0FFD6944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2BE4C-9B91-4E43-96F1-3E432D28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316C4-3EAE-4A6C-8ECF-93CE7989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3B725-5438-4F94-8594-35932E2D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5EFE9-DA09-4642-B8C4-758DC78B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BF13E-A873-451F-B9B3-A9FEA1FD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357-6987-4D1C-869A-DBD062D5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7440A-9C54-45E6-83AB-F1296457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8246B-041C-4C8B-BC82-3FBE2444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8B0E-4CFA-4302-B078-B0924C8A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B38-8D9F-41D8-9452-9D092112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5B7-C50C-44EA-8EEB-83C5717A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69EB-21BC-458F-9B39-60EFFF253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72C5-07C4-4AB2-BC61-30ABC8900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3347-CF7D-444F-8AAA-4A2CB3D9C3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CADB-70DE-4303-AED3-B749C37C0A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7754-283E-4A80-A1BE-B83D72F1C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6C68-1015-4F5F-AC56-993606915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drumroll.wav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drumroll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applause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push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lick.wav"/><Relationship Id="rId4" Type="http://schemas.openxmlformats.org/officeDocument/2006/relationships/audio" Target="../media/push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5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shreg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258560" y="4149720"/>
            <a:ext cx="651348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Урок природоведения в 4 классе по программе Плешак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116000" y="1052640"/>
            <a:ext cx="66978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вотные леса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ЗАЯЦ - БЕЛЯК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ЕЛИЧ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ина тел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8-68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ина хвост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,5-10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,5-5 к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РАЗ ЖИЗ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вычки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диночки; в брачный период, осенью и зимой, объединяются в маленькие групп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ищ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равы, многолетники, низкие кустарн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должительность жизни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ычно около 2 лет, очень редко 8-9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0" y="2019240"/>
            <a:ext cx="4321080" cy="45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3640" y="4437000"/>
            <a:ext cx="8280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яцы-беляки большую часть своей жизни проводят в одиночестве. С приходом зимы в Арктике зайцы начинают объединяться в небольшие группки. Зимой жизнь в группах обеспечивает им лучшую защиту от хищников. В случае опасности вся группа разбегается в разные стороны, что на некоторое время выбивает врага из колеи и дает белякам больше шансов на спасе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5280" y="264960"/>
            <a:ext cx="4238640" cy="4108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003640" y="339120"/>
            <a:ext cx="331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яц-беляк является добычей многих хищников. К его основным врагам относятся песец, волк, рысь, филин и беркут. Поэтому нет ничего удивительного в том, что заяц-беляк отличается хорошо развитой покровительственной окраской, большой подвижностью и умением быстро бег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979640" y="54936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УКУШК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4824360" cy="388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"/>
          <p:cNvGraphicFramePr/>
          <p:nvPr/>
        </p:nvGraphicFramePr>
        <p:xfrm>
          <a:off x="3108240" y="2274840"/>
          <a:ext cx="2928960" cy="143820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3110040" y="41011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8720" y="1970640"/>
            <a:ext cx="31669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ВЕЛИЧ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Длина: ДО 40 С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Размах крыльев: 55-60 с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Масса: 110-</a:t>
            </a: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130 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ОБРАЗ ЖИЗ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Привычки: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одиночки; в период 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гнездования на короткое время образуют пар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Пища: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насекомые и их личинки. </a:t>
            </a: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Звуки: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самец «ку-ку», самка из­дает звучные горловые трел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РОДСТВЕННЫЕ ВИ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К роду кукушек принадлежит 130 видов птиц, обитающих почти во всем мире. Ближайшим родственником является глухая кукуш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750"/>
                            </p:stCondLst>
                            <p:childTnLst>
                              <p:par>
                                <p:cTn id="606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150"/>
                            </p:stCondLst>
                            <p:childTnLst>
                              <p:par>
                                <p:cTn id="618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700"/>
                            </p:stCondLst>
                            <p:childTnLst>
                              <p:par>
                                <p:cTn id="62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800"/>
                            </p:stCondLst>
                            <p:childTnLst>
                              <p:par>
                                <p:cTn id="63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200"/>
                            </p:stCondLst>
                            <p:childTnLst>
                              <p:par>
                                <p:cTn id="636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750"/>
                            </p:stCondLst>
                            <p:childTnLst>
                              <p:par>
                                <p:cTn id="642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92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9700"/>
                            </p:stCondLst>
                            <p:childTnLst>
                              <p:par>
                                <p:cTn id="6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45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120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85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2400"/>
                            </p:stCondLst>
                            <p:childTnLst>
                              <p:par>
                                <p:cTn id="6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4900"/>
                            </p:stCondLst>
                            <p:childTnLst>
                              <p:par>
                                <p:cTn id="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450"/>
                            </p:stCondLst>
                            <p:childTnLst>
                              <p:par>
                                <p:cTn id="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3640" y="333360"/>
            <a:ext cx="39668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Кукушка известна тем, что откладывает свои яйца в гнезда других птиц. Ее птенцов выкармливают приемные родители. Такое поведение пернатых называется гнездовым паразитизмом. Каждая кукушка подбрасывает яйца в гнезда того вида птиц, которые выкормили ее саму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3961080" cy="3749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788000" y="4234320"/>
            <a:ext cx="41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Кукушка питается насекомыми, которых обычно отыскивает на деревьях и в кустарнике. Она склевывает всех насекомых, которые попадаются у нее на пути. Кукушка -одна из немногих птиц, которые поедают и мохнатых гусени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3527280" cy="2808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29" name=""/>
          <p:cNvSpPr/>
          <p:nvPr/>
        </p:nvSpPr>
        <p:spPr>
          <a:xfrm>
            <a:off x="684360" y="5950080"/>
            <a:ext cx="35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5640" y="5950080"/>
            <a:ext cx="3529080" cy="358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6920" y="6021360"/>
            <a:ext cx="3167280" cy="576360"/>
          </a:xfrm>
          <a:custGeom>
            <a:avLst/>
            <a:gdLst>
              <a:gd name="textAreaLeft" fmla="*/ 395640 w 3167280"/>
              <a:gd name="textAreaRight" fmla="*/ 2771640 w 3167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ahoma"/>
              </a:rPr>
              <a:t>БЕЛК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ВЕЛИЧ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Длина: 20-32 С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Длина хвоста: 19-31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Масса: 200-1000 г, в зависимости от времени года (летом белка весит меньш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ОБРАЗ ЖИЗ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Привычки: живут на деревьях. Держатся поодиноч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Звуки: резкое «тюк-тюк-тю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Пища: шишки, кора, сок растении, орехи, яйца, грибы и насеком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Продолжительность жизни: обычно 2-3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10080" y="1557360"/>
            <a:ext cx="404352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000"/>
                            </p:stCondLst>
                            <p:childTnLst>
                              <p:par>
                                <p:cTn id="7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6500"/>
                            </p:stCondLst>
                            <p:childTnLst>
                              <p:par>
                                <p:cTn id="7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7000"/>
                            </p:stCondLst>
                            <p:childTnLst>
                              <p:par>
                                <p:cTn id="7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8000"/>
                            </p:stCondLst>
                            <p:childTnLst>
                              <p:par>
                                <p:cTn id="7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8500"/>
                            </p:stCondLst>
                            <p:childTnLst>
                              <p:par>
                                <p:cTn id="7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9500"/>
                            </p:stCondLst>
                            <p:childTnLst>
                              <p:par>
                                <p:cTn id="7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32000" y="380520"/>
            <a:ext cx="3754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При помощи сильных задних лапок, снабженных острыми коготками, белка замечательно лазает по деревьям</a:t>
            </a: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4076640"/>
            <a:ext cx="42480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Белки ведут дневной образ жизни. Они проводят дни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в поисках пищи, часть которой сразу же съедают, а другую прячут в тайники, таким образом они делают запасы на зиму. Когда количество пищи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уменьшается, белки выходят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на поиски корма уже на рассвете.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384720" cy="29131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932360" y="191628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Белки, обитающие в городских парках и садах, охотно берут пищу, которую им приносят люди, однако их лесные собратья стараются избегать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03200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859280" y="1341000"/>
            <a:ext cx="403848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Эту презентацию вашему вниманию представила 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Красноборской начальной школ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Ожегова Людмил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45608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12000" y="198108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ahoma"/>
              </a:rPr>
              <a:t>ВЕЛИЧИ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Длина: самец 112 см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самка 108 с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Длина хвоста: до 40 с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Масса: самец 5,9 кг, самка 5,2 к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ahoma"/>
              </a:rPr>
              <a:t>ОБРАЗ ЖИЗ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Привычки: ночной образ жизни; совместная забота о потомстве, в остальное время держатся по одиночк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Пища: дождевые черви, кролики, птицы, насекомые, плоды. Продолжительность жизни: на свободе от 18 месяцев до 2 лет, в неволе до 14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ahoma"/>
              </a:rPr>
              <a:t>РОДСТВЕННЫЕ ВИ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Почти 50 различных подвидов, наиболее известный - серебристая лис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808520" cy="5327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835280" y="404640"/>
            <a:ext cx="590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ЖАЯ ЛИСИЦА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3789000"/>
            <a:ext cx="44654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Лисы ведут одиночный образ жизни, за исключением брачного периода и 3-4 месяцев, когда вместе заботятся о потомстве. Большую часть дня они поводят в норе или логове. Лисы хорошо приспособлены для ночной охоты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43280" y="764640"/>
            <a:ext cx="4197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Веками человек охотился на лис ради красивого меха. Но лисы – сообразительные животные. Они быстро приспосабливаются к новым условиям, поэтому исчезновение этому виду не грози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887640" cy="3068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30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ahoma"/>
              </a:rPr>
              <a:t>СНЕГИ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ВЕЛИЧ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Длина: 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</a:rPr>
              <a:t>I 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5 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</a:rPr>
              <a:t>CM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Размах крыльев: 25 с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Масса: до 34 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ОБРАЗ ЖИЗН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Привычки: пугливые птиц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Пища: семена, почки деревьев и кустарников и ягод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Продолжительность жизни:2-4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РОДСТВЕННЫЕ ВИ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На Азорских островах обитает подвид снегиря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murina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в оперении которого отсутствует красный цвет. Североевропейский подвид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yrrhula 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отличается более крупными размер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3868560" cy="4641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187280" y="260280"/>
            <a:ext cx="1368720" cy="13683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7280" y="274680"/>
            <a:ext cx="425916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Снегирь живет в Средней Европе, за исключением высоких гор и части побережья Северного моря, круглый год. Его легко узнать по характерной черной шапочке. Самца трудно перепутать с какой-либо другой птицей благодаря ярко окрашенным шее, груди и брюшку. Снегири отличаются не только красотой, но и солидностью: они никогда не торопятся, не суетятся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-360" y="4220640"/>
            <a:ext cx="514836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Снегирей часто можно увидеть на фруктовых деревьях в парке, в саду. В некоторых странах садоводы стреляют в снегирей или ловят их в силки, хотя исследования показали, что эти птицы кормятся на фруктовых деревьях только в том случае, когда им не хватает семян дикорастущих видов растений. Когда-то люди держали снегирей, как и других певчих птиц, в клетках. Снегирь - очень легко выучивает мелодии, которые ему насвистывает владелец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3957840" cy="3960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09564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302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ВЕЛИЧ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Длина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1,5-3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Высота в холке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1,50-2,3 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Масса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270-500 кг, на Аляске до 600 кг; самец значительно крупнее и тяжелее сам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ОБРАЗ ЖИЗ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ривычки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держатся поодиночке, зимой небольшими группами.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ища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листья, хвоя, ветки, водная растительность, кора.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родолжительность жизни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20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л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РОДСТВЕННЫЕ ВИ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Лось - единственный вид своего рода. Некоторые ученые выделяют в семействе оленевых отдельное подсемейство - лоси </a:t>
            </a:r>
            <a:r>
              <a:rPr b="0" i="1" lang="ru-RU" sz="1600" spc="-1" strike="noStrike">
                <a:solidFill>
                  <a:srgbClr val="ffffb7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b7"/>
                </a:solidFill>
                <a:latin typeface="Arial"/>
              </a:rPr>
              <a:t>Alcinae</a:t>
            </a:r>
            <a:r>
              <a:rPr b="0" i="1" lang="ru-RU" sz="1600" spc="-1" strike="noStrike">
                <a:solidFill>
                  <a:srgbClr val="ffffb7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51280" y="1484280"/>
            <a:ext cx="5116680" cy="5184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556000" y="260280"/>
            <a:ext cx="424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ОСЬ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219280" y="333000"/>
            <a:ext cx="35146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 лося очень слабое зрение – это компенсируется великолепно развитым слухом и обонянием. Известны случаи, когда лоси во время гона атаковали поезда, звук сигналов которых принимали за рев конкурентов.</a:t>
            </a: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3933360"/>
            <a:ext cx="3949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Лоси, как правило, держатся поодиночке или маленькими группами. Весной и летом самцы и самки держатся отдельно. Самки в это время живут со своими детенышами. Летом лоси встречаются преимущественно на равнинах, вблизи озер и болот. С наступлением похолодания животные ухолят на возвышенности и ищут укрытия в лес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671640" cy="4032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608360" cy="34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650"/>
                            </p:stCondLst>
                            <p:childTnLst>
                              <p:par>
                                <p:cTn id="4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33"/>
                </a:solidFill>
                <a:latin typeface="Garamond"/>
              </a:rPr>
              <a:t>ВАЛЬДШНЕП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889440" cy="36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4284720" y="1628640"/>
          <a:ext cx="4858920" cy="4601880"/>
        </p:xfrm>
        <a:graphic>
          <a:graphicData uri="http://schemas.openxmlformats.org/drawingml/2006/table">
            <a:tbl>
              <a:tblPr/>
              <a:tblGrid>
                <a:gridCol w="4858920"/>
              </a:tblGrid>
              <a:tr h="460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ВЕЛИЧ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лина тела: 33-35 с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лина клюв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,5-8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с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лина крыл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о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20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с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асс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290-320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ОБРАЗ ЖИЗ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ривычки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ержатся поодиночке; полигамн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ищ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ождевые черви, насеко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ые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и их личинки, в основном жуки и личинки двукрылы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400"/>
                            </p:stCondLst>
                            <p:childTnLst>
                              <p:par>
                                <p:cTn id="4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4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Благодаря своей окраске, вальдшнеп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почти не заметен на фоне опавш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листвы. Перья на крыльях и теле у н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ржавчато-бурые с темными пятнам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брюшко беловато-охристое с коричневы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поперечными полосами. На голове вид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перемежающиеся светлые и темные полос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24800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500"/>
                            </p:stCondLst>
                            <p:childTnLst>
                              <p:par>
                                <p:cTn id="4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3:17:17Z</dcterms:created>
  <dc:creator>user</dc:creator>
  <dc:description/>
  <dc:language>en-US</dc:language>
  <cp:lastModifiedBy>Владимир Меженный</cp:lastModifiedBy>
  <dcterms:modified xsi:type="dcterms:W3CDTF">2006-12-26T10:00:19Z</dcterms:modified>
  <cp:revision>6</cp:revision>
  <dc:subject/>
  <dc:title>Слайд 1</dc:title>
</cp:coreProperties>
</file>